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5DF68-AC94-4603-AAAC-BF170662F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DD32E-A8C5-4374-A7B8-4EBEE1376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DE372-AD22-44D4-B2E2-553E43772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6EFB6-4EEC-4197-A85B-50F111336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1218E-ACC4-4207-A9B1-510F3303A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1C969-1770-4505-B957-047FD23F3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EF257-76A0-48B1-B5DE-EE1C31684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C857A-F34B-4ADD-AE73-973084FA0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38043-79FF-4C90-B448-7CB590114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68F1D-71A8-4295-BC2F-15B868D62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4290A-3D2C-44D4-AF1D-AA856CB11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1FB82-3573-42F6-8835-E1B92E587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0CA2-379F-4090-B30C-939E203381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7" name="Picture 6" descr=""/>
          <p:cNvPicPr/>
          <p:nvPr/>
        </p:nvPicPr>
        <p:blipFill>
          <a:blip r:embed="rId1"/>
          <a:stretch/>
        </p:blipFill>
        <p:spPr>
          <a:xfrm>
            <a:off x="4952880" y="144792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5T12:33:04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